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A40-DFF8-40C8-9A46-840A69C4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4702-5C5E-48EE-BA60-BFD8331A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D6A-687F-4792-B1E1-7CFA5F53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208C-8CED-47F6-AC92-6DEEF7AC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1356-6990-4EC5-B500-BD66A361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1EB8-EB74-411B-BCB4-D0CE7D9E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A4F8-F2C3-4296-8DDB-D06CE28F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F6D1-37D7-4C21-B97F-16ED71A2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A8EA-BDFF-4F4B-8A6D-4408F2BE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4A18-7825-493C-A9A0-4C8BD34F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06A3-1528-4BB5-8487-A830DBBF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630-559A-4DEC-921B-72E64002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58E9-12F7-4926-8807-356D099C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0A59-6CFB-4922-BD32-FEEA5E4F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C077-6BFA-4964-ADBC-7D47A44C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C4FB-DAE8-4832-A7EB-EC626872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89FD-4689-41D5-B3B1-9FD27F13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A370-4EF7-4166-A966-18567FAD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0487-63B4-4411-AC37-0EEF4497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7846-6923-445E-B06A-7B3BC6D4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939-F91A-4E91-BE69-ACDF7CF6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24DD-789F-4CFA-8B12-FFD8CFCF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8AA-BC53-4E94-8138-E15FC1A9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CB3-AED8-4173-BBD2-34CFAFE2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53EA-6E9C-45F2-87D6-DB49ACBAEC3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250920" y="620640"/>
            <a:ext cx="8893080" cy="58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7D3D-B120-4245-B3AD-444FA0C6095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755640" y="1341360"/>
            <a:ext cx="8031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Система контр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и мониторинга качества знаний </a:t>
            </a:r>
            <a:r>
              <a:rPr b="1" lang="en-US" sz="4000" spc="-1" strike="noStrike">
                <a:solidFill>
                  <a:srgbClr val="336699"/>
                </a:solidFill>
                <a:latin typeface="Verdana"/>
              </a:rPr>
              <a:t>PROCLass</a:t>
            </a: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- современное средство оценки знаний обучающих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21"/>
          <p:cNvGrpSpPr/>
          <p:nvPr/>
        </p:nvGrpSpPr>
        <p:grpSpPr>
          <a:xfrm>
            <a:off x="-308520" y="-759960"/>
            <a:ext cx="9452520" cy="7617960"/>
            <a:chOff x="-308520" y="-759960"/>
            <a:chExt cx="9452520" cy="7617960"/>
          </a:xfrm>
        </p:grpSpPr>
        <p:sp>
          <p:nvSpPr>
            <p:cNvPr id="88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93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4" name="Picture 28" descr="j0395941%5b1%5d"/>
              <p:cNvPicPr/>
              <p:nvPr/>
            </p:nvPicPr>
            <p:blipFill>
              <a:blip r:embed="rId1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7" name="Oval 33"/>
            <p:cNvSpPr/>
            <p:nvPr/>
          </p:nvSpPr>
          <p:spPr>
            <a:xfrm>
              <a:off x="7810560" y="6478560"/>
              <a:ext cx="5014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</a:rPr>
              <a:t>Порядок работ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Наличие одного компьютера(для учителя) и проектор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Приёмник сигналов и программное обеспече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Беспроводные пульты с индивидуальными чипам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42960" y="347760"/>
            <a:ext cx="78580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42960" y="189000"/>
            <a:ext cx="7858080" cy="5919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3059280" y="2817720"/>
            <a:ext cx="535284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14040"/>
            <a:ext cx="93250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Verdana"/>
              </a:rPr>
              <a:t>Отчёт о результатах тест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2" descr="C:\Users\Lenovo\Pictures\скрин результаты.png"/>
          <p:cNvPicPr/>
          <p:nvPr/>
        </p:nvPicPr>
        <p:blipFill>
          <a:blip r:embed="rId1"/>
          <a:stretch/>
        </p:blipFill>
        <p:spPr>
          <a:xfrm>
            <a:off x="903240" y="1031760"/>
            <a:ext cx="7705800" cy="5722920"/>
          </a:xfrm>
          <a:prstGeom prst="rect">
            <a:avLst/>
          </a:prstGeom>
          <a:ln w="9360">
            <a:solidFill>
              <a:srgbClr val="ff99ff"/>
            </a:solidFill>
            <a:miter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406760" cy="4084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4464000" y="3357720"/>
            <a:ext cx="4179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4500720" y="262080"/>
            <a:ext cx="4348080" cy="313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233280" y="3343320"/>
            <a:ext cx="4122720" cy="2949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3"/>
          <a:stretch/>
        </p:blipFill>
        <p:spPr>
          <a:xfrm>
            <a:off x="4356000" y="3403440"/>
            <a:ext cx="4492800" cy="288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4"/>
          <a:stretch/>
        </p:blipFill>
        <p:spPr>
          <a:xfrm>
            <a:off x="187200" y="171360"/>
            <a:ext cx="431352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Verdana"/>
              </a:rPr>
              <a:t>Проблема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Способы выявления качества знаний обучающих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Поиск оптимальных форм контроля зна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Оценивание качества зна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1643040" y="6429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Verdana"/>
              </a:rPr>
              <a:t>ТРАДИ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9" descr="http://im1-tub-ru.yandex.net/i?id=fd7dea0877f3ea8da9991802ad1681b7-55-144&amp;n=21"/>
          <p:cNvPicPr/>
          <p:nvPr/>
        </p:nvPicPr>
        <p:blipFill>
          <a:blip r:embed="rId1"/>
          <a:stretch/>
        </p:blipFill>
        <p:spPr>
          <a:xfrm>
            <a:off x="392040" y="1643040"/>
            <a:ext cx="2608200" cy="292896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21"/>
          <p:cNvGrpSpPr/>
          <p:nvPr/>
        </p:nvGrpSpPr>
        <p:grpSpPr>
          <a:xfrm>
            <a:off x="-308520" y="-759960"/>
            <a:ext cx="9452520" cy="7617960"/>
            <a:chOff x="-308520" y="-759960"/>
            <a:chExt cx="9452520" cy="7617960"/>
          </a:xfrm>
        </p:grpSpPr>
        <p:sp>
          <p:nvSpPr>
            <p:cNvPr id="106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0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111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28" descr="j0395941%5b1%5d"/>
              <p:cNvPicPr/>
              <p:nvPr/>
            </p:nvPicPr>
            <p:blipFill>
              <a:blip r:embed="rId2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" name="Oval 33"/>
            <p:cNvSpPr/>
            <p:nvPr/>
          </p:nvSpPr>
          <p:spPr>
            <a:xfrm>
              <a:off x="7810560" y="6478560"/>
              <a:ext cx="5014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8" name="Picture 21" descr="http://im1-tub-ru.yandex.net/i?id=58fc853ec26b7e82d29bb6daa575a5da-135-144&amp;n=21"/>
          <p:cNvPicPr/>
          <p:nvPr/>
        </p:nvPicPr>
        <p:blipFill>
          <a:blip r:embed="rId3"/>
          <a:stretch/>
        </p:blipFill>
        <p:spPr>
          <a:xfrm>
            <a:off x="3286080" y="3857760"/>
            <a:ext cx="2857680" cy="242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http://im1-tub-ru.yandex.net/i?id=de755d2fa5ae5455d7740e2bb58bed22-101-144&amp;n=21"/>
          <p:cNvPicPr/>
          <p:nvPr/>
        </p:nvPicPr>
        <p:blipFill>
          <a:blip r:embed="rId4"/>
          <a:stretch/>
        </p:blipFill>
        <p:spPr>
          <a:xfrm>
            <a:off x="6637320" y="2000160"/>
            <a:ext cx="2506680" cy="2428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http://im0-tub-ru.yandex.net/i?id=e323e3d815fe9ad09e762579edf4d1b4-19-144&amp;n=21"/>
          <p:cNvPicPr/>
          <p:nvPr/>
        </p:nvPicPr>
        <p:blipFill>
          <a:blip r:embed="rId5"/>
          <a:stretch/>
        </p:blipFill>
        <p:spPr>
          <a:xfrm>
            <a:off x="3143160" y="1500120"/>
            <a:ext cx="2943360" cy="1928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785880" y="642960"/>
            <a:ext cx="81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99"/>
                </a:solidFill>
                <a:latin typeface="Verdana"/>
              </a:rPr>
              <a:t>Современнос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-308520" y="-759960"/>
            <a:ext cx="9452520" cy="7627320"/>
            <a:chOff x="-308520" y="-759960"/>
            <a:chExt cx="9452520" cy="7627320"/>
          </a:xfrm>
        </p:grpSpPr>
        <p:sp>
          <p:nvSpPr>
            <p:cNvPr id="124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8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129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0" name="Picture 28" descr="j0395941%5b1%5d"/>
              <p:cNvPicPr/>
              <p:nvPr/>
            </p:nvPicPr>
            <p:blipFill>
              <a:blip r:embed="rId1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" name="Group 32"/>
            <p:cNvGrpSpPr/>
            <p:nvPr/>
          </p:nvGrpSpPr>
          <p:grpSpPr>
            <a:xfrm>
              <a:off x="7770960" y="6453360"/>
              <a:ext cx="576000" cy="414000"/>
              <a:chOff x="7770960" y="6453360"/>
              <a:chExt cx="576000" cy="414000"/>
            </a:xfrm>
          </p:grpSpPr>
          <p:sp>
            <p:nvSpPr>
              <p:cNvPr id="134" name="Oval 33"/>
              <p:cNvSpPr/>
              <p:nvPr/>
            </p:nvSpPr>
            <p:spPr>
              <a:xfrm>
                <a:off x="7810560" y="6478560"/>
                <a:ext cx="501480" cy="347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5400000" blurRad="0" rotWithShape="0">
                  <a:srgbClr val="33669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5" name="Picture 34" descr=""/>
              <p:cNvPicPr/>
              <p:nvPr/>
            </p:nvPicPr>
            <p:blipFill>
              <a:blip r:embed="rId2"/>
              <a:srcRect l="0" t="-3520" r="0" b="0"/>
              <a:stretch/>
            </p:blipFill>
            <p:spPr>
              <a:xfrm>
                <a:off x="7770960" y="6453360"/>
                <a:ext cx="576000" cy="414000"/>
              </a:xfrm>
              <a:prstGeom prst="rect">
                <a:avLst/>
              </a:prstGeom>
              <a:ln w="0">
                <a:noFill/>
              </a:ln>
              <a:effectLst>
                <a:outerShdw dist="12600" dir="5400000" blurRad="0" rotWithShape="0">
                  <a:srgbClr val="336699">
                    <a:alpha val="50000"/>
                  </a:srgbClr>
                </a:outerShdw>
              </a:effectLst>
            </p:spPr>
          </p:pic>
        </p:grpSp>
        <p:sp>
          <p:nvSpPr>
            <p:cNvPr id="136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2268360" y="1617840"/>
            <a:ext cx="4535640" cy="4997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4"/>
          <a:stretch/>
        </p:blipFill>
        <p:spPr>
          <a:xfrm>
            <a:off x="539640" y="4089240"/>
            <a:ext cx="2733840" cy="2468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5"/>
          <a:stretch/>
        </p:blipFill>
        <p:spPr>
          <a:xfrm>
            <a:off x="6389640" y="4149720"/>
            <a:ext cx="2584440" cy="2408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«Система контроля и мониторинга качества знаний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PROClass</a:t>
            </a: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интерактивная система тестирования, предназначенная д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перативной проверки знан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учающихся. С её помощью проводится текущий, тематический и итоговый контроль знаний и мониторинг образовательных достижений обучающих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Verdana"/>
              </a:rPr>
              <a:t>Преимущества системы </a:t>
            </a:r>
            <a:r>
              <a:rPr b="1" lang="en-US" sz="3600" spc="-1" strike="noStrike">
                <a:solidFill>
                  <a:srgbClr val="7030a0"/>
                </a:solidFill>
                <a:latin typeface="Verdana"/>
              </a:rPr>
              <a:t>PROCla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9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Arial"/>
              </a:rPr>
              <a:t>Индивидуальная, парная и  группов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9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Arial"/>
              </a:rPr>
              <a:t>Контроль зна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28" descr="j0395941%5b1%5d"/>
          <p:cNvPicPr/>
          <p:nvPr/>
        </p:nvPicPr>
        <p:blipFill>
          <a:blip r:embed="rId1"/>
          <a:stretch/>
        </p:blipFill>
        <p:spPr>
          <a:xfrm>
            <a:off x="0" y="0"/>
            <a:ext cx="150480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</a:rPr>
              <a:t>Возможности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85840" y="1643040"/>
            <a:ext cx="857232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вать собственные тест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ыстро и эффективно проводить текущий, тематический и итоговый контроль знаний, не нарушая целостности образовательного процесса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удобной форме осуществлять контроль присутствия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ть в памяти компьютера Базу данных, наполняя портфолио учебных достижений учени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ь мониторинг качества знаний обучающегося в течение всего периода обуч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Verdana"/>
              </a:rPr>
              <a:t>Принципы работы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1. Интерактивнос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2. Доступнос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3. Ситуация успех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rcRect l="0" t="27021" r="0" b="0"/>
          <a:stretch/>
        </p:blipFill>
        <p:spPr>
          <a:xfrm>
            <a:off x="395280" y="1989000"/>
            <a:ext cx="8209080" cy="425628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1"/>
          <p:cNvSpPr/>
          <p:nvPr/>
        </p:nvSpPr>
        <p:spPr>
          <a:xfrm>
            <a:off x="919440" y="476280"/>
            <a:ext cx="64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истема </a:t>
            </a:r>
            <a:r>
              <a:rPr b="1" lang="en-US" sz="2400" spc="-1" strike="noStrike">
                <a:solidFill>
                  <a:srgbClr val="002060"/>
                </a:solidFill>
                <a:latin typeface="Verdana"/>
              </a:rPr>
              <a:t>PROClass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представл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программно-аппаратным комплексом</a:t>
            </a:r>
            <a:r>
              <a:rPr b="1" lang="en-US" sz="2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2:07:59Z</dcterms:created>
  <dc:creator>DESIGN</dc:creator>
  <dc:description/>
  <dc:language>en-US</dc:language>
  <cp:lastModifiedBy>user</cp:lastModifiedBy>
  <dcterms:modified xsi:type="dcterms:W3CDTF">2017-11-06T06:37:33Z</dcterms:modified>
  <cp:revision>52</cp:revision>
  <dc:subject/>
  <dc:title>Слайд 1</dc:title>
</cp:coreProperties>
</file>